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65A-5A79-4020-B742-21154E0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0FB-9633-4097-88A2-2965A73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759-CF32-4BE3-83BF-0C4FCB70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4EB-CFCF-4ACE-A86E-82465B05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220-B27C-4645-8909-9A899EE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EA3-273E-4B86-9D3B-DFCDB7F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30A-F068-4ACE-919C-A0C877E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DE2-D67E-429B-BD8F-DC25923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D1F-63DB-48BD-AB25-11974F50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32F-055E-483F-B127-9A411A8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171-154A-4C24-89A3-642F992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5AB-AC31-4D49-AABE-7EE2E5E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9C2A-356C-4358-818C-DEB54B76591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860280"/>
            <a:ext cx="68580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Доц. др Александар Матић, опртопедски хирург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Клиника за ортопедију и трауматологију КЦ Крагујевац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Факултет медицинских наука универзитета у Крагујевц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57440" y="2327400"/>
            <a:ext cx="582912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Увод у дечју хирургиј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499920" y="510372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АСМ Хирургиј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803240" y="681120"/>
            <a:ext cx="13827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5958000" y="403200"/>
            <a:ext cx="2006640" cy="150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према инфекциј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и локална отпорност је мања код деце него код одрасли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лакши развој инфекције код дец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а борба против присутне инфекц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ан одговор у развоју и току инфекц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 у терапији и надокнади течности и електролита, услед недовољно развијене функције јетре и бубрег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FE8-1781-49C8-8E2F-CE7B07459AB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065320" y="3141720"/>
            <a:ext cx="5459400" cy="291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ђене аномал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урођених мана које се манифестују одмах након рођења или током прве године живо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ју рано препознавање и адекватно праћењ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авају могућности лечења у складу са током боле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73E2-0B59-4C96-92A3-839B72A2F79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655640" y="2421000"/>
            <a:ext cx="2880000" cy="23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78604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нерабилности тки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ст и вулнерабилност ткива захтева пажљивију хируршку техник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њивији зидови крвних судова – Отежана хемостаз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е повреде капсула, тетива, лигамена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анатомски однос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47AF-D9C1-4973-AA59-DBC18A927BD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851280" cy="256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261040" y="2924280"/>
            <a:ext cx="3425760" cy="253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 од етиологије истох болести код одрасл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примену различитих хируршких техни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примену другачијих материјала и терапијских средста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– Урођена препонска кила код деце, која настаје због перзистентног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us vaginalis-a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перише различитом хируршком техником у односу на препонску килу код одрасл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A47-196F-47AB-8E01-15AA6F8AE6D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ластични процес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чији тумори у дечјем узраст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хируршке онкологије код деце се разликуј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 често зависи од различитих чинилаца (генетских малформација, итд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и су тумори мезенхимског порекла (сарком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и су ређ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0E3-F551-4D80-A4EF-5CDEC546193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2612880" cy="384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633840" y="2997360"/>
            <a:ext cx="537696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дечјег траумати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овреда по узрас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етрикалне повреде – Несразмера величине плода и карлице, положај плода, интерв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оми – Најчешће клавикула, хумерус, фему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брахијалног плексу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732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е – </a:t>
            </a:r>
            <a:r>
              <a:rPr b="0" lang="sr-Latn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b-Duchenne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 (</a:t>
            </a:r>
            <a:r>
              <a:rPr b="0" lang="sr-Latn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, C6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32732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е – </a:t>
            </a:r>
            <a:r>
              <a:rPr b="0" lang="sr-Latn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mpke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 (</a:t>
            </a:r>
            <a:r>
              <a:rPr b="0" lang="sr-Latn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, Th1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 – </a:t>
            </a: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ut succedaneum (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</a:t>
            </a: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halhaematom (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 крви испод периоста</a:t>
            </a: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њачећег дела гла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паренхиматозних и шупљих органа абдом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 дет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о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о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у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услед па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ни трауматиз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и трауматиз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539D-E15B-4632-8844-63AC682FF78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дечјег траумати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579600"/>
            <a:ext cx="8244000" cy="56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7120" indent="-31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хитности прве пом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ност дисајних путева (страно тело, аспирација, интубација, и др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аз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обилизац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шо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унутрашњих повре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суперфицијалних повре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57120" indent="-31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морталитет, могуће секвеле (парезе, парализе, епилепсија, и др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– Еластичност костију, сутуре, фонтанел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крварења – Подела крварења је иста (епидурална, субдурална, субарахноидална, интрацеребралн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57120" indent="-31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рудног кош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е фрактуре ребара због еластичности, могуће контузије плућа, руптура дијафрагме, пнеумоторакс, хематоторакс, повреде срц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57120" indent="-31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трбуха и ретроперитонеалних орг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е су (најчешће руптуре бубрега, слезине, јетр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 се некада касно испољавају, слични ставови као код одрасли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6120" indent="-318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 очувања слези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CF3A-5093-46D4-85DA-D9CF6100645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дечјег траумати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о-зглобни трауматиз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– Дечја кост савитљивија, федерира пре пуцања (прелом у виду зелене гран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физиолозе – Преломи у зони раста (подела на 5 типова по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er-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есивне фрактуре – За радиографску дијагностику потребно је познавати могућност прекобројних костију, постојање секундарних језгара окоштавања, зоне рас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емоделирања кости – Надокнада мањих скраћења код прелома, исправљање мањих ангулација, немогућност ремоделације ротационог деформитета, вишак к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е прелом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и прело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и прело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27008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њен цео скелет (</a:t>
            </a:r>
            <a:r>
              <a:rPr b="0" lang="sr-Latn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genesis imperfecta, osteopetrosis, rahitis...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7008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њена кост на једном месту (цисте, остеомијелитис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– Тежи се неоперативним методама (репозиција, екстензија, перкутана фиксација), оперативно када је неопходно, у зависности од врсте прел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2700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226-3E43-432F-99C4-803A2DCF562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злостављаног дет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 1946. године –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f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нанете у више навр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пл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 и старе модриц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и стари прело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 дете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самих повре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CCC1-026E-4C1B-BF26-8B78BAB9DFA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от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8640" indent="-32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е повреде, могућност развоја опекотинског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8640" indent="-32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о дубини (4 степен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рмал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не дермал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е дермал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фасцијал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8640" indent="-32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еченој површини –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as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равило деветке, са модификацијом за дец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– Прва година 19% минус 1% до 10. годи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а – 13% плус 0.5% до 10. годи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ка – 1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8640" indent="-32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кнада течности –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ir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форму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а маса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чена повришина у % /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се у периодима 4, 4, 4, 6, 6, 12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8640" indent="-32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еративно (површне опекотин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66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 (дубоке опекотине) – Рана некректомија и аутотрансплантација коже по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ersch-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(унутар 3-5 дан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319-16C6-482B-B678-8B9AFD4C5AC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ris01.jpg"/>
          <p:cNvPicPr/>
          <p:nvPr/>
        </p:nvPicPr>
        <p:blipFill>
          <a:blip r:embed="rId1"/>
          <a:stretch/>
        </p:blipFill>
        <p:spPr>
          <a:xfrm>
            <a:off x="6300720" y="3111480"/>
            <a:ext cx="284652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440"/>
            <a:ext cx="91440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неонаталног пери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време хитних опер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време планираних опер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дечје хирур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функцији организма детета и одрасл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23800" indent="-2012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према инфекциј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23800" indent="-2012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ђене аномал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23800" indent="-2012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нерабилност тки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23800" indent="-2012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23800" indent="-2012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ластични процес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дечјег траумат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злостављаног де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на стања у дечјој ортопед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и остеомијелитис код 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о страно т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919-09A2-462F-9C51-A0C1AC825D2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от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83A-1CE4-46C3-8C9C-91F8700B38D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4" descr="042"/>
          <p:cNvPicPr/>
          <p:nvPr/>
        </p:nvPicPr>
        <p:blipFill>
          <a:blip r:embed="rId1"/>
          <a:stretch/>
        </p:blipFill>
        <p:spPr>
          <a:xfrm>
            <a:off x="1065240" y="1841400"/>
            <a:ext cx="2498760" cy="333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043"/>
          <p:cNvPicPr/>
          <p:nvPr/>
        </p:nvPicPr>
        <p:blipFill>
          <a:blip r:embed="rId2"/>
          <a:stretch/>
        </p:blipFill>
        <p:spPr>
          <a:xfrm>
            <a:off x="3780000" y="1841400"/>
            <a:ext cx="2498400" cy="333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044"/>
          <p:cNvPicPr/>
          <p:nvPr/>
        </p:nvPicPr>
        <p:blipFill>
          <a:blip r:embed="rId3"/>
          <a:stretch/>
        </p:blipFill>
        <p:spPr>
          <a:xfrm>
            <a:off x="6494400" y="1846440"/>
            <a:ext cx="2494080" cy="332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на стања у дечјој ортопеди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физарни остеомијелитис кука новорођенчета и одојч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 – Септични артритис кука, неспецифични артритис кука, и д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 – Имунолошка отпорност мања, бактеријска инфекција (90% стафилокок, потом стрептокок, протеус, салмонела, и др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инфекције – Пупчаник, са кож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–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,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ноген повишени, пад имуноглобул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 – Болни плач при повијању, поштеда екстремитета, висока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 – Анамнеза, клиничка слика, лабораторија,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G, EHO,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ција зглоба (бактериолошки преглед), хемокулту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– Артротомија, антибиотици против стафилокока, потом према резултатима антибиограма, имуноглобулини, плазма, имобилизац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 локализације остеомијелити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сти + прилагођена имобилизац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FA1E-5DE3-435E-8ED0-0DDEE2CA07D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и остеомијелитис код де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а метафизе – Клиничка слика тешког септичног стања (локално бол, оток, виока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патогене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 – Најчешће стафилоко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и пут шир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 имуните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мнеза и клинички прегле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– 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, Le,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ноген, пункција са бактериолошким прегледом, хемокулту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е дозе антибиотика (стафилокок), корекција према налазу антиби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зија гнојне колекције са дренаж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обилизац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B472-E56C-4428-B9B3-D3F0E25147B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о страно т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осле убода на т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делу већих зглобова настаје хипертрофични синовитис (најчешће у пределу кол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н оток у пределу зглоба након повред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оперативно - Синовиектом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4869-7E2F-4F7F-9414-6D97CE2A942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а на пажњ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4B6-A87E-471F-BBC6-D793F30273D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ом 19. века – дечја хирургија се издваја као самостална дисциплина. До тада се сматрало да је дечја хирургија уствари хирургија одраслих примењена на пацијенту мањих дименз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ло се да децу пре 6 месеци не треба оперисати, а пре две године старости не  треба радити сложене операц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840. године у Лондону и Паризу, па до краја века заслугом Купера, Фостера, Џонсона и др. издваја се дечја хирургија као посебна клиничка специјално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. год (Kely) у САД објављује први уџбеник из дечје хирург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нас, савремену дечју хирургију заснива Проф. др Димитрије Јовчић, 1924. године по доласку са специјализације из Париза, када је основао прво Дечје хируршко одељење у Бeоград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0BEA-53BC-4E8A-8506-0156DE7568A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_jovcic"/>
          <p:cNvPicPr/>
          <p:nvPr/>
        </p:nvPicPr>
        <p:blipFill>
          <a:blip r:embed="rId1"/>
          <a:stretch/>
        </p:blipFill>
        <p:spPr>
          <a:xfrm>
            <a:off x="3816360" y="4635360"/>
            <a:ext cx="1511280" cy="219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неонаталног пери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 из интраутериног живота у самостални жив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 отпорност према одавању топлоте, инфекцији, трауми, губитку течности и електролита,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склоност аспир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превен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едоношчета у инкубатору (температура, влажност, парцијални притисак кисеоника - Т⁰C = 32-33⁰C, влажност = 80%, О2 = 40% → 3-5 лит/мин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перативно давање К витамина (хипопротромбинемија) и Ц вит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јани операциони 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нфекције (мајчин имунитет 1-2 недељ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оно-електролитна терапија према Т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ријска надокнада – 100 калорија/кг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ација садржаја усне дупље, исхрана преко сонд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парамет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ишућа запремина крви – 8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кнада – Дневне дозе крви и плазме – 10-2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EA4-A268-4FCE-88E4-3570F61FF42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неонаталног пери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 теч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дана – 50-8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0 – 12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TM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30 – 10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0 – 9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40 – 7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 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за – 1-2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/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 за перорални унос по об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дан 3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дан 6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 дан 9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ље 120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09B-F698-44AE-AE1F-28B4FFB6BF2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и неонаталног пери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е вредности крвне слике новорођенч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3E3-12EC-47E2-BE02-4E8BEF8DD68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96920" y="1407960"/>
          <a:ext cx="7848720" cy="419760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000"/>
                <a:gridCol w="196236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недељ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огл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ематок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ритроц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дња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ремина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икулоц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укоц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омбоц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време хитних опе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 езофагуса – Првог дана по рођењ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фрагмална хернија – Хитна, првих дана по рођењу, касније откривене по дијагноз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 ануса – Првих д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 ректума – Колостома првих дана, дефинитивна операција око 10 месеци стар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 неонаталне обструкције – Одмах по рођењ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шиза – После сат времена од рође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фалоц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– Првих дана по рођењ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– Прво конзервативни третман, операције касн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D8A-D713-4135-8BC8-3F08D54D92F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време планираних опе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цеп примарног непца – Око 3. месеца ста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цеп секундарног непца – Од 6. месеца до 15-18 месеци ста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спадија – 3-4 године ста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пторхизам – 2.5 године ста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а пилоруса – 3-6 недеља ста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винална хернија – По постављању дијагн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е аномалије стопа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физикал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ја у 3-4. месецу стар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а луксација ку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еративно од рођ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треби меко-ткивне операције у првој годин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е операције после 18 месеци стар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7422-9F99-48F7-8D0D-27463E7B8C3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дечје хиру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многе разлике у функцији организма детета и одрасл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дете млађе разлике су изражен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зраженије разлике су код неонатуса (први месец живота) и одојчета (прва година жив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о развијени органски системи условљав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ост развоју хипотерм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идратациј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а функциј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8424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развој шокног ста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60C-0995-4F5C-B48E-56ADA2FBE87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54:06Z</dcterms:created>
  <dc:creator>BiD</dc:creator>
  <dc:description/>
  <dc:language>en-US</dc:language>
  <cp:lastModifiedBy>User</cp:lastModifiedBy>
  <dcterms:modified xsi:type="dcterms:W3CDTF">2021-02-08T01:14:18Z</dcterms:modified>
  <cp:revision>283</cp:revision>
  <dc:subject/>
  <dc:title>Koleno</dc:title>
</cp:coreProperties>
</file>