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950-247F-40B2-A857-1F477DD0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0A4-5781-45E4-B79A-689CD8A6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41B-BDBD-4DC5-9902-7D4D449C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EDC-18D4-402E-A9BA-B83BDBF8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1C9-F00C-4038-82A5-1F0D6363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A33-8881-4A92-A76B-583022FC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B20-ADF7-4972-B8C9-F0000C10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713-2FE8-4782-9A5E-53FB8622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657-1063-431A-A394-557AEC74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6BC-4DA6-41A1-8FC6-40852E5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CC8-19C9-490D-89A3-60CAEB03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786-2D5F-4A26-93C9-350B3F97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F245-1653-4138-8D32-6C5D09DA7C2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860280"/>
            <a:ext cx="68580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300" spc="-1" strike="noStrike">
                <a:solidFill>
                  <a:srgbClr val="898989"/>
                </a:solidFill>
                <a:latin typeface="Calibri"/>
              </a:rPr>
              <a:t>Доц. др Александар Матић, опртопедски хирург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300" spc="-1" strike="noStrike">
                <a:solidFill>
                  <a:srgbClr val="898989"/>
                </a:solidFill>
                <a:latin typeface="Calibri"/>
              </a:rPr>
              <a:t>Клиника за ортопедију и трауматологију КЦ Крагујевац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300" spc="-1" strike="noStrike">
                <a:solidFill>
                  <a:srgbClr val="898989"/>
                </a:solidFill>
                <a:latin typeface="Calibri"/>
              </a:rPr>
              <a:t>Факултет медицинских наука универзитета у Крагујевц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00000" y="2327400"/>
            <a:ext cx="82440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Тумори код дец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499920" y="5103720"/>
            <a:ext cx="21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АСМ Хирургиј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.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803240" y="681120"/>
            <a:ext cx="138276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5958000" y="403200"/>
            <a:ext cx="2006640" cy="150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 анома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 малформације су подељене и на основу 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ти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 у њи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flow"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је (у к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e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u CM, LM, and V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-flow"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 (у које сп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M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ртеријске малформ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е).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оване васкуларне малфор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M, CLM, i CLVM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-flow"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M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-flow"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 број ових комбинованих форми назване су 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и су их први или најкомплетније описали, ка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ppel-Trenaunay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CLVM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ke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er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CAV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, већи део аутора ове називе не употребља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исти могу бити погрешни или могу да 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у забу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E3E0-CCDE-44AE-87AC-7E1A1BF66ED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ла на пажњ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E3B-46C3-4432-9013-E5B5C13B48D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440"/>
            <a:ext cx="91440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ms-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 тум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блас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крококцигеални тум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игни тумори код де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нги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фанги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 анома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2B46-4F93-461D-9E77-DB1BA53784D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ms-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 тумо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бластом – Малигни тумор бубрега дечјег узраста (50% до 4. године, 90% до 8. године старо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 порекл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ан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фоген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скавичаво ткив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ењ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аренхи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фоген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гено у плућа и кос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– Нефректомија, хемио- и зрачна терап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3E4-607E-414F-8DA8-6D8E49FCD5E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4427640" y="1911240"/>
            <a:ext cx="4600440" cy="303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бласт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и – Од примитивних ћелија симпатичког нервног система, може захватити надбубрег, ретроперитонеалне и медијастиналне симпатичке ганг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бдомену обично малиган, у медијастинуму бениг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стазира у регионалне лимфне чворове, јетру, кости, плу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а (повишена ванилманделична киселин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пс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о- и зрач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AEDF-2B5B-4A19-8070-1FBCD5CBEF9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21240" y="3292560"/>
            <a:ext cx="377496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крококцигеални тумо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и тумор са сва три листа (ектодерм, ендодерм и мезодер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 регији често малигно алтер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о- и зрач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309-FD0B-4D8E-8EBC-4BDB3DE1752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238400" y="2705040"/>
            <a:ext cx="6667200" cy="349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игни тумори код дец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нгиоми – Пролиферација крвних судова слична тумору у нивоу коже или проминира, јавља се и на унутрашњим органима, могућа спонтана рег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фангиом – Цистични тумор лимфног порекла, локализује се на врату, језику, аксили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6C4-B83E-48B4-AA34-6B0BDEDADD04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45"/>
          <p:cNvPicPr/>
          <p:nvPr/>
        </p:nvPicPr>
        <p:blipFill>
          <a:blip r:embed="rId1"/>
          <a:stretch/>
        </p:blipFill>
        <p:spPr>
          <a:xfrm>
            <a:off x="1359000" y="2398680"/>
            <a:ext cx="3049560" cy="389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007"/>
          <p:cNvPicPr/>
          <p:nvPr/>
        </p:nvPicPr>
        <p:blipFill>
          <a:blip r:embed="rId2"/>
          <a:stretch/>
        </p:blipFill>
        <p:spPr>
          <a:xfrm>
            <a:off x="4869000" y="2378160"/>
            <a:ext cx="3049560" cy="3890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059440" y="63453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ист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ич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и хиг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550880" y="63453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</a:rPr>
              <a:t>Хемангиом 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 анома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е на 2 врсте: Сличне промене, присутна биолошка разлика, па је и терапија другач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и – Хемангиоми и друге ретке врсте тумор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 малформациј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нгиоми – Бенигни тумори који настају умножавањем и абнормалним растом ендотелних ћелија, које стварају додатне крвне судове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првих година живота хемангиоми брзо расту, а потом почињу постепено да се смањују и током детињства честo нестају, те не захтевају лечење. Међутим, понeкaд су вeлики и проузрокују наруженост, функционалне поремeћаје, а могу и да улцерира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 малформације – Узроковане су локализованом грешком у току развоја крвних и лимфатичних судова и настајањем абнормалних формација пре рођења. Васкуларне малформације обично расту пропорционално са 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 дет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о могу и брже 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шире. Без лече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е 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фор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е не регреди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9060-EE8D-4E6B-9488-07E857EA372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 анома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нгио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трећина постоји на рођењу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се јавља у првих неколико недеља живота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 расту у првој години живота, а потом се споро смањују (инволуирају) током детињства и никад се не навраћају поново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се јављају код девојчица него код дечака (3:1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првих година живота мењају боју од гримизно црвене до светло црвене боје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тестасту конзистенцију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7205-EFC0-4BDA-8B0A-8EF09272AAA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 анома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00000" y="657000"/>
            <a:ext cx="82440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 малформаци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 су присутне н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 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нис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јасне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м је сразмеран расту 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а се могу повећати због тр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, инф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циј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током пубертета) и никада не регредирају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једнако се јављ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 код 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ц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д дечака (1:1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гримизно црвену боју, ружичасту, плаву, или су потпуно безбојне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ше су конзистенциј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х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иома и могу да пулсирају синхроно са пулсом када пос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и "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flow"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васкуларних малформациј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ларне м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форм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е 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фатичне малформације 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ске малформациј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V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овенске малформациј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AV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оване васкуларне малформ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E1E9-9351-428A-A907-A5AE768D66B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7T13:54:06Z</dcterms:created>
  <dc:creator>BiD</dc:creator>
  <dc:description/>
  <dc:language>en-US</dc:language>
  <cp:lastModifiedBy>User</cp:lastModifiedBy>
  <dcterms:modified xsi:type="dcterms:W3CDTF">2021-02-08T01:34:13Z</dcterms:modified>
  <cp:revision>269</cp:revision>
  <dc:subject/>
  <dc:title>Koleno</dc:title>
</cp:coreProperties>
</file>